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7700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3396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D4504C-B4E4-4A68-BA34-838D21AD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0700A0-4428-4A92-89E9-A2942BC86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70488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96558F-7E91-4B21-8B0A-69170EC0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BEF782-B8E5-4CCC-8F8E-C012E407E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70488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F25179-2BE5-43B5-837F-36666F48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8FC45F-5F6C-44DF-A585-5F9433F07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3D207F-82CC-4A17-8A98-78C4C33F4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6531120"/>
            <a:ext cx="9144000" cy="326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3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9000"/>
          </a:bodyPr>
          <a:p>
            <a:pPr indent="0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6240" indent="-22284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21816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593880" y="6579720"/>
            <a:ext cx="289548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1442880"/>
            <a:ext cx="63990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0925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81480" y="5246640"/>
            <a:ext cx="3648240" cy="125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5260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36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46120" y="2109960"/>
            <a:ext cx="623556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king Open Drug Data</a:t>
            </a:r>
            <a:br>
              <a:rPr sz="5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ie Stephen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Research Scientist, Eli Lill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 Particip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8000"/>
          </a:bodyPr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se Ander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B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 Che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Doh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tie Hassanzad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ja Jentz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t Mar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 Prud’homm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ias Samwa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 Zh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781680" cy="343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: Data Set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749160" y="1440000"/>
            <a:ext cx="7556760" cy="4884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198960" y="6629400"/>
            <a:ext cx="565920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http://esw.w3.org/topic/HCLSIG/LODD/Data/DataSet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acterizing Drug Data 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3880" y="6300720"/>
            <a:ext cx="7391520" cy="480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77000"/>
          </a:bodyPr>
          <a:p>
            <a:pPr marL="284400"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Mark Sharp, et al: A Framework for Characterizing Drug Information Sources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232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 Data S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0" t="0" r="0" b="2141"/>
          <a:stretch/>
        </p:blipFill>
        <p:spPr>
          <a:xfrm>
            <a:off x="1295280" y="1752480"/>
            <a:ext cx="632484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 in Mar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0" r="0" b="28360"/>
          <a:stretch/>
        </p:blipFill>
        <p:spPr>
          <a:xfrm>
            <a:off x="2133720" y="1371600"/>
            <a:ext cx="45608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97720" cy="4175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ly growing cloud of Link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data sets related to life sci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3C’s HCLSIG has published 4 drug related data 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ments needed to linking algorithms and data brow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ed Data Princip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ing Open Drug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1360" y="361440"/>
            <a:ext cx="8231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Classic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2268360" y="5040360"/>
            <a:ext cx="654120" cy="979560"/>
          </a:xfrm>
          <a:prstGeom prst="flowChartMagneticDisk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V="1">
            <a:off x="2595600" y="4471920"/>
            <a:ext cx="1440" cy="4492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2301840" y="3429000"/>
            <a:ext cx="654120" cy="979560"/>
          </a:xfrm>
          <a:prstGeom prst="flowChartMultidocument">
            <a:avLst/>
          </a:prstGeom>
          <a:solidFill>
            <a:srgbClr val="e6e6e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835440" y="5025960"/>
            <a:ext cx="654120" cy="979560"/>
          </a:xfrm>
          <a:prstGeom prst="flowChartMagneticDisk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3868560" y="3429000"/>
            <a:ext cx="654120" cy="979560"/>
          </a:xfrm>
          <a:prstGeom prst="flowChartMultidocument">
            <a:avLst/>
          </a:prstGeom>
          <a:solidFill>
            <a:srgbClr val="e6e6e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449440" y="5499000"/>
            <a:ext cx="3096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019400" y="5484960"/>
            <a:ext cx="3114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263680" y="37926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830760" y="3792600"/>
            <a:ext cx="74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955800" y="3402000"/>
            <a:ext cx="653760" cy="979560"/>
          </a:xfrm>
          <a:prstGeom prst="flowChartMultidocument">
            <a:avLst/>
          </a:prstGeom>
          <a:solidFill>
            <a:srgbClr val="e6e6e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917640" y="37656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4181400" y="4465800"/>
            <a:ext cx="1800" cy="4507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 flipV="1">
            <a:off x="1731960" y="3772080"/>
            <a:ext cx="469800" cy="217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054240" y="3664080"/>
            <a:ext cx="717840" cy="150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3079800" y="3897360"/>
            <a:ext cx="666720" cy="27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365120" y="1757520"/>
            <a:ext cx="11350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Web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Brow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895480" y="1744560"/>
            <a:ext cx="11350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Search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1558440" y="4137120"/>
            <a:ext cx="736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hyper-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3124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572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informatio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lobally unique I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trieval mechanis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on Hyper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glue that holds everything toge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2"/>
          <p:cNvSpPr/>
          <p:nvPr/>
        </p:nvSpPr>
        <p:spPr>
          <a:xfrm>
            <a:off x="915840" y="5033880"/>
            <a:ext cx="654120" cy="981000"/>
          </a:xfrm>
          <a:prstGeom prst="flowChartMagneticDisk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V="1">
            <a:off x="1243080" y="4465800"/>
            <a:ext cx="1440" cy="4507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1081080" y="5472000"/>
            <a:ext cx="3096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5"/>
          <p:cNvSpPr/>
          <p:nvPr/>
        </p:nvSpPr>
        <p:spPr>
          <a:xfrm>
            <a:off x="1733400" y="2638440"/>
            <a:ext cx="455760" cy="420840"/>
          </a:xfrm>
          <a:prstGeom prst="upArrow">
            <a:avLst>
              <a:gd name="adj1" fmla="val 49852"/>
              <a:gd name="adj2" fmla="val 3419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6"/>
          <p:cNvSpPr/>
          <p:nvPr/>
        </p:nvSpPr>
        <p:spPr>
          <a:xfrm>
            <a:off x="3270240" y="2624040"/>
            <a:ext cx="455760" cy="420840"/>
          </a:xfrm>
          <a:prstGeom prst="upArrow">
            <a:avLst>
              <a:gd name="adj1" fmla="val 49852"/>
              <a:gd name="adj2" fmla="val 3419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2958480" y="4175280"/>
            <a:ext cx="736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hyper-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ked Da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36760" y="2362320"/>
            <a:ext cx="5954400" cy="3930120"/>
            <a:chOff x="1436760" y="2362320"/>
            <a:chExt cx="5954400" cy="3930120"/>
          </a:xfrm>
        </p:grpSpPr>
        <p:sp>
          <p:nvSpPr>
            <p:cNvPr id="121" name="Rectangle 5"/>
            <p:cNvSpPr/>
            <p:nvPr/>
          </p:nvSpPr>
          <p:spPr>
            <a:xfrm>
              <a:off x="1442160" y="3903120"/>
              <a:ext cx="682920" cy="4456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6"/>
            <p:cNvSpPr/>
            <p:nvPr/>
          </p:nvSpPr>
          <p:spPr>
            <a:xfrm>
              <a:off x="2728440" y="5456160"/>
              <a:ext cx="549360" cy="83628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3003480" y="4964760"/>
              <a:ext cx="1080" cy="3931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8"/>
            <p:cNvSpPr/>
            <p:nvPr/>
          </p:nvSpPr>
          <p:spPr>
            <a:xfrm>
              <a:off x="4045680" y="5443920"/>
              <a:ext cx="55080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2880360" y="5846760"/>
              <a:ext cx="2599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>
              <a:off x="4199040" y="5834520"/>
              <a:ext cx="26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1467000" y="4006080"/>
              <a:ext cx="6217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4336560" y="4959720"/>
              <a:ext cx="1440" cy="394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2205360" y="4151160"/>
              <a:ext cx="360360" cy="45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3425400" y="4126680"/>
              <a:ext cx="460080" cy="11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435840" y="4556880"/>
              <a:ext cx="489600" cy="157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2107800" y="500040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>
              <a:off x="1591560" y="5450400"/>
              <a:ext cx="54936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1866240" y="4959720"/>
              <a:ext cx="1080" cy="394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1730160" y="5823720"/>
              <a:ext cx="2588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1436760" y="4447080"/>
              <a:ext cx="684360" cy="44604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2661840" y="3909960"/>
              <a:ext cx="683280" cy="4474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2656440" y="4455000"/>
              <a:ext cx="684360" cy="44496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3999240" y="3897720"/>
              <a:ext cx="685440" cy="4474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3994920" y="4442760"/>
              <a:ext cx="684720" cy="44460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5"/>
            <p:cNvSpPr/>
            <p:nvPr/>
          </p:nvSpPr>
          <p:spPr>
            <a:xfrm>
              <a:off x="5436360" y="5450400"/>
              <a:ext cx="54828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V="1">
              <a:off x="5711040" y="4959720"/>
              <a:ext cx="1440" cy="394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7"/>
            <p:cNvSpPr/>
            <p:nvPr/>
          </p:nvSpPr>
          <p:spPr>
            <a:xfrm>
              <a:off x="6753600" y="5438160"/>
              <a:ext cx="54972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5588640" y="5842440"/>
              <a:ext cx="2599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6906960" y="5830560"/>
              <a:ext cx="262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V="1">
              <a:off x="7044480" y="4955400"/>
              <a:ext cx="1080" cy="3931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6132960" y="4122720"/>
              <a:ext cx="460080" cy="115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6143760" y="4552560"/>
              <a:ext cx="489600" cy="156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5368320" y="3905640"/>
              <a:ext cx="684360" cy="44604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5364360" y="4449600"/>
              <a:ext cx="684360" cy="44460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5"/>
            <p:cNvSpPr/>
            <p:nvPr/>
          </p:nvSpPr>
          <p:spPr>
            <a:xfrm>
              <a:off x="6706800" y="3893400"/>
              <a:ext cx="684360" cy="4456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6702840" y="4437360"/>
              <a:ext cx="683280" cy="44460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 flipH="1">
              <a:off x="4802400" y="4106520"/>
              <a:ext cx="411120" cy="49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 flipH="1">
              <a:off x="4802040" y="4727880"/>
              <a:ext cx="423000" cy="1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9"/>
            <p:cNvSpPr/>
            <p:nvPr/>
          </p:nvSpPr>
          <p:spPr>
            <a:xfrm>
              <a:off x="3326760" y="500148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0"/>
            <p:cNvSpPr/>
            <p:nvPr/>
          </p:nvSpPr>
          <p:spPr>
            <a:xfrm>
              <a:off x="4676400" y="500148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1"/>
            <p:cNvSpPr/>
            <p:nvPr/>
          </p:nvSpPr>
          <p:spPr>
            <a:xfrm>
              <a:off x="6052680" y="500148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2"/>
            <p:cNvSpPr/>
            <p:nvPr/>
          </p:nvSpPr>
          <p:spPr>
            <a:xfrm>
              <a:off x="1467000" y="4537800"/>
              <a:ext cx="621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3"/>
            <p:cNvSpPr/>
            <p:nvPr/>
          </p:nvSpPr>
          <p:spPr>
            <a:xfrm>
              <a:off x="2685960" y="401148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4"/>
            <p:cNvSpPr/>
            <p:nvPr/>
          </p:nvSpPr>
          <p:spPr>
            <a:xfrm>
              <a:off x="2685960" y="453780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45"/>
            <p:cNvSpPr/>
            <p:nvPr/>
          </p:nvSpPr>
          <p:spPr>
            <a:xfrm>
              <a:off x="4035240" y="401148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46"/>
            <p:cNvSpPr/>
            <p:nvPr/>
          </p:nvSpPr>
          <p:spPr>
            <a:xfrm>
              <a:off x="4035240" y="453780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7"/>
            <p:cNvSpPr/>
            <p:nvPr/>
          </p:nvSpPr>
          <p:spPr>
            <a:xfrm>
              <a:off x="5385600" y="4537800"/>
              <a:ext cx="6231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48"/>
            <p:cNvSpPr/>
            <p:nvPr/>
          </p:nvSpPr>
          <p:spPr>
            <a:xfrm>
              <a:off x="5385600" y="4011480"/>
              <a:ext cx="6231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9"/>
            <p:cNvSpPr/>
            <p:nvPr/>
          </p:nvSpPr>
          <p:spPr>
            <a:xfrm>
              <a:off x="6734880" y="4537800"/>
              <a:ext cx="621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50"/>
            <p:cNvSpPr/>
            <p:nvPr/>
          </p:nvSpPr>
          <p:spPr>
            <a:xfrm>
              <a:off x="6734880" y="4011480"/>
              <a:ext cx="621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2"/>
            <p:cNvSpPr/>
            <p:nvPr/>
          </p:nvSpPr>
          <p:spPr>
            <a:xfrm>
              <a:off x="5769720" y="2385360"/>
              <a:ext cx="1239840" cy="700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168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Search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Eng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3"/>
            <p:cNvSpPr/>
            <p:nvPr/>
          </p:nvSpPr>
          <p:spPr>
            <a:xfrm>
              <a:off x="3713400" y="2374560"/>
              <a:ext cx="1278360" cy="71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168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Linked Data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Mash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4"/>
            <p:cNvSpPr/>
            <p:nvPr/>
          </p:nvSpPr>
          <p:spPr>
            <a:xfrm>
              <a:off x="2109240" y="3291480"/>
              <a:ext cx="382680" cy="357840"/>
            </a:xfrm>
            <a:prstGeom prst="upArrow">
              <a:avLst>
                <a:gd name="adj1" fmla="val 49852"/>
                <a:gd name="adj2" fmla="val 3419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55"/>
            <p:cNvSpPr/>
            <p:nvPr/>
          </p:nvSpPr>
          <p:spPr>
            <a:xfrm>
              <a:off x="4160520" y="3291480"/>
              <a:ext cx="383040" cy="357840"/>
            </a:xfrm>
            <a:prstGeom prst="upArrow">
              <a:avLst>
                <a:gd name="adj1" fmla="val 49852"/>
                <a:gd name="adj2" fmla="val 3419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56"/>
            <p:cNvSpPr/>
            <p:nvPr/>
          </p:nvSpPr>
          <p:spPr>
            <a:xfrm>
              <a:off x="6212880" y="3289680"/>
              <a:ext cx="383040" cy="359280"/>
            </a:xfrm>
            <a:prstGeom prst="upArrow">
              <a:avLst>
                <a:gd name="adj1" fmla="val 49852"/>
                <a:gd name="adj2" fmla="val 3419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7"/>
            <p:cNvSpPr/>
            <p:nvPr/>
          </p:nvSpPr>
          <p:spPr>
            <a:xfrm>
              <a:off x="1644840" y="2362320"/>
              <a:ext cx="1290240" cy="72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168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Linked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Brow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58"/>
          <p:cNvSpPr/>
          <p:nvPr/>
        </p:nvSpPr>
        <p:spPr>
          <a:xfrm>
            <a:off x="-152280" y="1522440"/>
            <a:ext cx="87627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emantic Web technologies to publish structured data on the Web and set links between data from one data source and data from another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a Objects Identified with HTTP UR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711360" y="1793880"/>
            <a:ext cx="1465200" cy="746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pd:cyg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83000" y="2790720"/>
            <a:ext cx="23367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ichard Cygani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3268800" y="3367080"/>
            <a:ext cx="22939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dbpedia: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110240" y="2603520"/>
            <a:ext cx="1440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044360" y="3311640"/>
            <a:ext cx="2176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based_n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990720" y="245916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990720" y="3052800"/>
            <a:ext cx="158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995400" y="3733920"/>
            <a:ext cx="226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3213000" y="1781280"/>
            <a:ext cx="167004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2176560" y="2165400"/>
            <a:ext cx="103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116800" y="1703520"/>
            <a:ext cx="114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df: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683640" y="4348080"/>
            <a:ext cx="665136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pd:cygri</a:t>
            </a:r>
            <a:r>
              <a:rPr b="0" lang="en-US" sz="2100" spc="-1" strike="noStrike">
                <a:solidFill>
                  <a:srgbClr val="000066"/>
                </a:solidFill>
                <a:latin typeface="News Gothic MT"/>
              </a:rPr>
              <a:t> = http://richard.cyganiak.de/foaf.rdf#cygri</a:t>
            </a:r>
            <a:br>
              <a:rPr sz="2100"/>
            </a:b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dbpedia:Berlin</a:t>
            </a:r>
            <a:r>
              <a:rPr b="0" lang="en-US" sz="2100" spc="-1" strike="noStrike">
                <a:solidFill>
                  <a:srgbClr val="000066"/>
                </a:solidFill>
                <a:latin typeface="News Gothic MT"/>
              </a:rPr>
              <a:t> = http://dbpedia.org/resource/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rms an RDF link between two data 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referencing URIs over the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4770360" y="2754360"/>
            <a:ext cx="3839760" cy="2883960"/>
            <a:chOff x="4770360" y="2754360"/>
            <a:chExt cx="3839760" cy="2883960"/>
          </a:xfrm>
        </p:grpSpPr>
        <p:sp>
          <p:nvSpPr>
            <p:cNvPr id="191" name="Oval 4"/>
            <p:cNvSpPr/>
            <p:nvPr/>
          </p:nvSpPr>
          <p:spPr>
            <a:xfrm>
              <a:off x="4830120" y="4891320"/>
              <a:ext cx="2960640" cy="74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Cities_in_German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6969240" y="2754360"/>
              <a:ext cx="1640880" cy="4003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3.405.25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5022360" y="3013920"/>
              <a:ext cx="19252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popul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5931360" y="4241160"/>
              <a:ext cx="1692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skos:subje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4770360" y="4225680"/>
              <a:ext cx="152388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V="1">
              <a:off x="5465520" y="3191040"/>
              <a:ext cx="2207160" cy="685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12"/>
          <p:cNvSpPr/>
          <p:nvPr/>
        </p:nvSpPr>
        <p:spPr>
          <a:xfrm>
            <a:off x="2473200" y="2928960"/>
            <a:ext cx="23367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ichard Cygani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3"/>
          <p:cNvSpPr/>
          <p:nvPr/>
        </p:nvSpPr>
        <p:spPr>
          <a:xfrm>
            <a:off x="3159000" y="3505320"/>
            <a:ext cx="22939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dbpedia: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1000440" y="2741760"/>
            <a:ext cx="1440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934920" y="3449520"/>
            <a:ext cx="2176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based_n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880920" y="259704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880920" y="3191040"/>
            <a:ext cx="15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885960" y="3871800"/>
            <a:ext cx="226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3103560" y="1919160"/>
            <a:ext cx="167004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0"/>
          <p:cNvSpPr/>
          <p:nvPr/>
        </p:nvSpPr>
        <p:spPr>
          <a:xfrm>
            <a:off x="2066760" y="2303640"/>
            <a:ext cx="103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2007360" y="1841400"/>
            <a:ext cx="114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df: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3"/>
          <p:cNvSpPr/>
          <p:nvPr/>
        </p:nvSpPr>
        <p:spPr>
          <a:xfrm>
            <a:off x="601560" y="1932120"/>
            <a:ext cx="1465200" cy="74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d:cyg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referencing URIs over the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4923000" y="2371680"/>
            <a:ext cx="3839760" cy="2884320"/>
            <a:chOff x="4923000" y="2371680"/>
            <a:chExt cx="3839760" cy="2884320"/>
          </a:xfrm>
        </p:grpSpPr>
        <p:sp>
          <p:nvSpPr>
            <p:cNvPr id="211" name="Oval 4"/>
            <p:cNvSpPr/>
            <p:nvPr/>
          </p:nvSpPr>
          <p:spPr>
            <a:xfrm>
              <a:off x="4982760" y="4509000"/>
              <a:ext cx="2960640" cy="74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Cities_in_German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5"/>
            <p:cNvSpPr/>
            <p:nvPr/>
          </p:nvSpPr>
          <p:spPr>
            <a:xfrm>
              <a:off x="7121880" y="2371680"/>
              <a:ext cx="1640880" cy="4003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3.405.25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5175000" y="2631240"/>
              <a:ext cx="19252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popul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6084000" y="3858840"/>
              <a:ext cx="1692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skos:subje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923000" y="3843360"/>
              <a:ext cx="152388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 flipV="1">
              <a:off x="5618160" y="2808360"/>
              <a:ext cx="2207160" cy="685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2625840" y="2546280"/>
            <a:ext cx="23367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ichard Cygani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3311640" y="3122640"/>
            <a:ext cx="22939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dbpedia: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1153080" y="2359080"/>
            <a:ext cx="1440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1087200" y="3067200"/>
            <a:ext cx="2176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based_n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1033560" y="221472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1033560" y="2808360"/>
            <a:ext cx="158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1038240" y="3489480"/>
            <a:ext cx="226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3255840" y="1536840"/>
            <a:ext cx="167004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2219400" y="1920960"/>
            <a:ext cx="103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2159640" y="1459080"/>
            <a:ext cx="114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df: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3083040" y="4863960"/>
            <a:ext cx="1914480" cy="3024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8"/>
          <p:cNvSpPr/>
          <p:nvPr/>
        </p:nvSpPr>
        <p:spPr>
          <a:xfrm>
            <a:off x="754200" y="1549440"/>
            <a:ext cx="1465200" cy="74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d:cyg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99120" y="4419720"/>
            <a:ext cx="1471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skos:sub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51400" y="5638680"/>
            <a:ext cx="1471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skos:sub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9640" y="4800600"/>
            <a:ext cx="21160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dbpedia:Hambur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4880" y="5867280"/>
            <a:ext cx="2265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dbpedia:Meunc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 flipV="1">
            <a:off x="3173400" y="5029200"/>
            <a:ext cx="1828800" cy="83808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" y="4572000"/>
            <a:ext cx="2362320" cy="762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1080" y="5638680"/>
            <a:ext cx="2362320" cy="762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inked Data Cl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447920" y="1433520"/>
            <a:ext cx="6019560" cy="48909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236520" y="5867280"/>
            <a:ext cx="2278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324000" indent="-324000">
              <a:spcBef>
                <a:spcPts val="176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2 billion RDF tri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76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3 million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LinkingOpenData?action=AttachFile&amp;do=get&amp;target=LoDLogo"/>
          <p:cNvPicPr/>
          <p:nvPr/>
        </p:nvPicPr>
        <p:blipFill>
          <a:blip r:embed="rId2"/>
          <a:stretch/>
        </p:blipFill>
        <p:spPr>
          <a:xfrm>
            <a:off x="6870600" y="1371600"/>
            <a:ext cx="20448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inking Open Drug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3680" y="1622520"/>
            <a:ext cx="70783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HCLSIG task started October 1,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rimary Objec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Survey publicly available data sets about drug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ublish and interlink these data sets on the Web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Explore interesting questions that could b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answered if the data sets are link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1:52:50Z</dcterms:created>
  <dc:creator>kblanc</dc:creator>
  <dc:description/>
  <dc:language>en-US</dc:language>
  <cp:lastModifiedBy>c082000</cp:lastModifiedBy>
  <cp:lastPrinted>2000-03-06T21:03:57Z</cp:lastPrinted>
  <dcterms:modified xsi:type="dcterms:W3CDTF">2009-02-25T22:16:54Z</dcterms:modified>
  <cp:revision>685</cp:revision>
  <dc:subject/>
  <dc:title>Open Innov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nguage">
    <vt:lpwstr>eng</vt:lpwstr>
  </property>
  <property fmtid="{D5CDD505-2E9C-101B-9397-08002B2CF9AE}" pid="3" name="RecordSeries">
    <vt:lpwstr>ADM100</vt:lpwstr>
  </property>
  <property fmtid="{D5CDD505-2E9C-101B-9397-08002B2CF9AE}" pid="4" name="SensitivityClassification">
    <vt:lpwstr>GREEN</vt:lpwstr>
  </property>
</Properties>
</file>